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3C0A-04DB-411D-AF3F-352AC045E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973F-968D-409F-AC61-F3AE6A7B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90EC-39C0-4503-947A-3D3E14001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2ABD-7737-40F4-8D62-253457FF1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1E2D-1A39-4DDA-9F39-35217EC3C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7F8A-9145-4295-9D96-50C9EF59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E239-0B9C-466D-B283-38FB4384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CCD9-8C4F-4EB4-92D6-CD899FE5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0FFE-FE17-43CC-AB07-135F37B1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B044-696A-434C-9C22-B4B62D0B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E707-DD4A-4007-8ACD-B08A8837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3F5F-2572-4262-851D-C414178C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7BE4-0C32-413E-97A3-C3F33C4B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E839-8C94-426E-B1FC-0333CFB5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2691-ECD7-4128-89FB-84D3ED5A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5C95-E3CA-4C00-B141-3108356A1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DEEC-2A61-40A7-809C-FB979A8D3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A402-1CCC-4F64-B65B-E9D28E21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B333-CC48-42E2-A833-810562FB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65CB-DB29-4277-B7F6-B6FCC73F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7AE7-2F21-4210-BC3A-70A6FFA6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478E-1A5C-4BE2-B09A-F7D0227E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9524-C95E-4890-9EEE-F6D9934C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64C0-A473-4087-82D4-2D5B64FD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CA15-DBDA-422C-A48C-06ADD93E0FA3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386C-5CC4-4FBE-907E-1DC718E04250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eb.mit.edu/invent/iow/colt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an R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/25/11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 rot="17529600">
            <a:off x="5134320" y="5227920"/>
            <a:ext cx="459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5562720"/>
            <a:ext cx="7391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nife Figh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/311, www.freeplaymusic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495680" y="38098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9912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Colt"/>
          <p:cNvPicPr/>
          <p:nvPr/>
        </p:nvPicPr>
        <p:blipFill>
          <a:blip r:embed="rId1"/>
          <a:srcRect l="0" t="0" r="67864" b="0"/>
          <a:stretch/>
        </p:blipFill>
        <p:spPr>
          <a:xfrm>
            <a:off x="0" y="0"/>
            <a:ext cx="3200400" cy="3070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Colt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0" y="4038480"/>
            <a:ext cx="9144000" cy="28195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352680" y="0"/>
            <a:ext cx="435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457200"/>
            <a:ext cx="5334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melson MIT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Col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/28/11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00"/>
                </a:solidFill>
                <a:uFillTx/>
                <a:latin typeface="Arial"/>
                <a:hlinkClick r:id="rId3"/>
              </a:rPr>
              <a:t>http://web.mit.edu/invent/iow/colt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nvention: Colt Revolver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lt Revolver was obtained by Sam Colt from the U.S. Arm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lt Revolver shoots 6 more bullets than other sidearm or pistol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lt Revolver was so famous more people created the model by modifying i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lt Revolver is mostly used by Texas Ranger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most famous revolver is the 44 magnum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nventor: Samuel Col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m Colt was born in July 19 1814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e set up a shop in 1837 in Paterson, New Jersey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t age of 22, Colt obtained a U.S. patent for Colt Revolver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industrial Colt had also created several other revolvers including belt, pocket, and holster revolver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 1846, The Mexican War began and the U.S. War Department came to Colt for help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18:20:38Z</dcterms:created>
  <dc:creator>install</dc:creator>
  <dc:description/>
  <dc:language>en-US</dc:language>
  <cp:lastModifiedBy>install</cp:lastModifiedBy>
  <dcterms:modified xsi:type="dcterms:W3CDTF">2011-03-11T18:31:20Z</dcterms:modified>
  <cp:revision>16</cp:revision>
  <dc:subject/>
  <dc:title>Colt Revolver</dc:title>
</cp:coreProperties>
</file>